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drumroll.wav" ContentType="audio/x-wav"/>
  <Override PartName="/ppt/media/image34.gif" ContentType="image/gif"/>
  <Override PartName="/ppt/media/image20.gif" ContentType="image/gif"/>
  <Override PartName="/ppt/media/image13.png" ContentType="image/png"/>
  <Override PartName="/ppt/media/image17.png" ContentType="image/png"/>
  <Override PartName="/ppt/media/image19.png" ContentType="image/png"/>
  <Override PartName="/ppt/media/image26.gif" ContentType="image/gif"/>
  <Override PartName="/ppt/media/image16.gif" ContentType="image/gif"/>
  <Override PartName="/ppt/media/image15.jpeg" ContentType="image/jpe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40.png" ContentType="image/png"/>
  <Override PartName="/ppt/media/image9.png" ContentType="image/png"/>
  <Override PartName="/ppt/media/image12.png" ContentType="image/png"/>
  <Override PartName="/ppt/media/image30.gif" ContentType="image/gif"/>
  <Override PartName="/ppt/media/image38.png" ContentType="image/png"/>
  <Override PartName="/ppt/media/image8.png" ContentType="image/png"/>
  <Override PartName="/ppt/media/image28.gif" ContentType="image/gif"/>
  <Override PartName="/ppt/media/image33.gif" ContentType="image/gif"/>
  <Override PartName="/ppt/media/image37.jpeg" ContentType="image/jpeg"/>
  <Override PartName="/ppt/media/image39.gif" ContentType="image/gif"/>
  <Override PartName="/ppt/media/image29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wind.wav" ContentType="audio/x-wav"/>
  <Override PartName="/ppt/media/image41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32.gif" ContentType="image/gif"/>
  <Override PartName="/ppt/media/image25.png" ContentType="image/png"/>
  <Override PartName="/ppt/media/image31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460A-77BE-4EFE-B283-93C17FE7D9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08F-4C6F-4CA1-93D0-801A4D9DE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D46-2FBE-42F6-A1CD-929026CB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81C-D6D7-4156-8BFC-62C52504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B3E-ADE3-4490-906D-6AE29AD2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737-2E80-4E76-9C91-3453A11B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E41F-F0FD-4635-A960-FECCD3EF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78B5-2A60-4B25-9254-83F2C6F9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875E-1618-41D8-97E5-286EDAFC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0F8-457A-4FD4-8A61-08D98FD1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07E9-181E-4C8E-8A26-B2E1886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C04D-FDE9-4E5F-BE0C-48B0B7DB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9C91-14C9-4370-A8AD-C519953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542-7E26-4E18-92DB-F21C19D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4D61-1949-41C8-86ED-2570BAE9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4B75-93A8-43AD-A329-AD233BFA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7E73-4808-4B03-93A3-1F5723A3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0F05-3959-45DD-B2DA-6530F31F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C777-D447-43CB-B007-4CCF0C08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E7E7-FABC-46EC-9E6A-E41CD56C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8D9A-7C6B-4B33-ACF1-FF930EF3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A5DA-B7A4-44C5-99CF-CD5A9A70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477F-196B-498D-B51D-D91AA790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1D03-AE69-414B-8008-25D24253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C89-7D38-4DD7-A19A-DFD8E623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E719-550E-4A53-A875-E7101F68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180B-AB35-4BEC-9893-5CF7A66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4EE4-6CA7-4B70-ACBE-507E5BB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054C-34ED-44E9-8227-80F40A8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F54F-A761-488B-A7F4-D80F4ECB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C427-011A-45EA-94A3-2F943F31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5854-F46B-4A0A-86BF-47007DDC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E4555-0260-483B-BE7E-F14E44E7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3234-8F87-4EDB-BF6E-CDBB0AF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4E33-220E-44E1-A950-DF71BECB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58F-DDAA-4734-87E1-CAC64988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2FC8-F27F-4E45-A224-E54878DA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D13B-45DA-4561-A5C0-074646A4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166C-60BE-4B6B-993E-0D2B5635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109C-55CD-47DC-84FF-D3B8004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B44E-89A2-417F-B041-4FCD1F6A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9F5D-586D-4EDA-8DAC-317F4C10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EE82-B4E7-475B-83A0-B0EF4CB2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866D-05FA-4948-8BEC-4452910D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EE66-66B2-4C26-9D1B-AB379426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AFAC5-A22B-4DCA-B7E6-711F6201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EAA-4A09-4504-9A9A-81F02AB3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E116A-40FC-4326-84C5-D0ED942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CE28-A913-4CCF-95E2-31805954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F6C0-63F1-446E-A5C7-BF328FB0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187C-D54A-404B-BBAF-965818DA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85F7-6736-4EB5-B570-D01BCF0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5FC64-110C-4BDB-BAA8-59C3517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56FA-C895-4141-8B70-44BCE5E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6985-8E3F-4B4D-99FF-4B374BB1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B687-F8FF-4D65-A226-902383CB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21EB-1F11-4730-A8CE-DE6A4AEF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485-ED7F-4F2A-A389-0E188366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D16DB-726F-4A55-B476-CDA30D98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ED6CF-9FCE-4D4A-8DCA-EE9EAB52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B0F32-F253-4FD7-A636-116E9A11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C2DA-76A8-419F-AF5A-C4B36F16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713F5-CC6A-4E1E-BC73-F94A5ED4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75F89-265E-4A02-A762-9230832B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53640"/>
            <a:ext cx="86868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03C53-B853-4DB4-BD70-D5F21027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5ACF5-8D86-45D4-AA49-2749424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68A0F-4F1B-4D5B-BBAC-C686D31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BFFE4-1238-469B-8036-F6077FC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E68-473F-4B2C-89A2-E16B177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73DA-17F1-43BF-A267-A13D8483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0EBF3-98EF-47E1-AE40-463A9661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7144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47960" y="16765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9492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87144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47960" y="406476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ADB24-CED5-4035-B8F7-4A6469CE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840" y="406476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158-5DD0-4BAF-9AB4-4F413E9B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840" y="167652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06476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671-15F5-4A02-913F-20F3C548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arth Glass against white,loop.wmv" descr=""/>
          <p:cNvPicPr/>
          <p:nvPr/>
        </p:nvPicPr>
        <p:blipFill>
          <a:blip r:embed="rId2"/>
          <a:srcRect l="0" t="4835" r="0" b="8066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DD6-593F-48A1-AB55-E680A5A20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arth Glass against white,loop.wmv" descr=""/>
          <p:cNvPicPr/>
          <p:nvPr/>
        </p:nvPicPr>
        <p:blipFill>
          <a:blip r:embed="rId2"/>
          <a:stretch/>
        </p:blipFill>
        <p:spPr>
          <a:xfrm>
            <a:off x="0" y="228600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EB15-987B-43B3-B158-AC2169848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Earth Glass against white,loop.wmv" descr=""/>
          <p:cNvPicPr/>
          <p:nvPr/>
        </p:nvPicPr>
        <p:blipFill>
          <a:blip r:embed="rId2"/>
          <a:srcRect l="0" t="4842" r="0" b="8062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rcRect l="0" t="75301" r="0" b="0"/>
          <a:stretch/>
        </p:blipFill>
        <p:spPr>
          <a:xfrm>
            <a:off x="0" y="5164200"/>
            <a:ext cx="9144000" cy="169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9AD3-8768-434D-9253-C05262043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arth Glass against white,loop.wmv" descr=""/>
          <p:cNvPicPr/>
          <p:nvPr/>
        </p:nvPicPr>
        <p:blipFill>
          <a:blip r:embed="rId2"/>
          <a:srcRect l="0" t="4842" r="0" b="8062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rcRect l="0" t="75301" r="0" b="0"/>
          <a:stretch/>
        </p:blipFill>
        <p:spPr>
          <a:xfrm>
            <a:off x="0" y="5164200"/>
            <a:ext cx="9144000" cy="169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2282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B74D-B1ED-4F36-98A6-EC6DA2C0A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Earth Glass against white,loop.wmv" descr=""/>
          <p:cNvPicPr/>
          <p:nvPr/>
        </p:nvPicPr>
        <p:blipFill>
          <a:blip r:embed="rId2"/>
          <a:srcRect l="0" t="4835" r="0" b="8066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09E2-C703-4A67-B1F9-1ADE710527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Earth Glass against white,loop.wmv" descr=""/>
          <p:cNvPicPr/>
          <p:nvPr/>
        </p:nvPicPr>
        <p:blipFill>
          <a:blip r:embed="rId2"/>
          <a:srcRect l="0" t="4835" r="0" b="8066"/>
          <a:stretch/>
        </p:blipFill>
        <p:spPr>
          <a:xfrm>
            <a:off x="0" y="5486400"/>
            <a:ext cx="2362320" cy="1371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8686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7883-4847-4B11-8B45-2A6DC62683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0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6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7.jpe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2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" Target="slide2.xml"/><Relationship Id="rId7" Type="http://schemas.openxmlformats.org/officeDocument/2006/relationships/image" Target="../media/image18.png"/><Relationship Id="rId8" Type="http://schemas.openxmlformats.org/officeDocument/2006/relationships/slide" Target="slide3.xml"/><Relationship Id="rId9" Type="http://schemas.openxmlformats.org/officeDocument/2006/relationships/image" Target="../media/image19.png"/><Relationship Id="rId10" Type="http://schemas.openxmlformats.org/officeDocument/2006/relationships/image" Target="../media/image22.gi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image" Target="../media/image29.png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33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34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34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2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5.jpeg"/><Relationship Id="rId47" Type="http://schemas.openxmlformats.org/officeDocument/2006/relationships/image" Target="../media/image15.jpeg"/><Relationship Id="rId48" Type="http://schemas.openxmlformats.org/officeDocument/2006/relationships/image" Target="../media/image15.jpeg"/><Relationship Id="rId49" Type="http://schemas.openxmlformats.org/officeDocument/2006/relationships/image" Target="../media/image15.jpeg"/><Relationship Id="rId50" Type="http://schemas.openxmlformats.org/officeDocument/2006/relationships/image" Target="../media/image15.jpeg"/><Relationship Id="rId51" Type="http://schemas.openxmlformats.org/officeDocument/2006/relationships/image" Target="../media/image15.jpeg"/><Relationship Id="rId52" Type="http://schemas.openxmlformats.org/officeDocument/2006/relationships/image" Target="../media/image15.jpeg"/><Relationship Id="rId53" Type="http://schemas.openxmlformats.org/officeDocument/2006/relationships/image" Target="../media/image15.jpeg"/><Relationship Id="rId54" Type="http://schemas.openxmlformats.org/officeDocument/2006/relationships/image" Target="../media/image15.jpeg"/><Relationship Id="rId55" Type="http://schemas.openxmlformats.org/officeDocument/2006/relationships/image" Target="../media/image15.jpeg"/><Relationship Id="rId56" Type="http://schemas.openxmlformats.org/officeDocument/2006/relationships/image" Target="../media/image15.jpeg"/><Relationship Id="rId57" Type="http://schemas.openxmlformats.org/officeDocument/2006/relationships/image" Target="../media/image15.jpeg"/><Relationship Id="rId58" Type="http://schemas.openxmlformats.org/officeDocument/2006/relationships/image" Target="../media/image15.jpeg"/><Relationship Id="rId59" Type="http://schemas.openxmlformats.org/officeDocument/2006/relationships/image" Target="../media/image15.jpeg"/><Relationship Id="rId60" Type="http://schemas.openxmlformats.org/officeDocument/2006/relationships/image" Target="../media/image15.jpeg"/><Relationship Id="rId61" Type="http://schemas.openxmlformats.org/officeDocument/2006/relationships/image" Target="../media/image15.jpeg"/><Relationship Id="rId62" Type="http://schemas.openxmlformats.org/officeDocument/2006/relationships/image" Target="../media/image15.jpeg"/><Relationship Id="rId63" Type="http://schemas.openxmlformats.org/officeDocument/2006/relationships/image" Target="../media/image15.jpeg"/><Relationship Id="rId64" Type="http://schemas.openxmlformats.org/officeDocument/2006/relationships/image" Target="../media/image15.jpeg"/><Relationship Id="rId65" Type="http://schemas.openxmlformats.org/officeDocument/2006/relationships/image" Target="../media/image15.jpeg"/><Relationship Id="rId66" Type="http://schemas.openxmlformats.org/officeDocument/2006/relationships/image" Target="../media/image15.jpeg"/><Relationship Id="rId67" Type="http://schemas.openxmlformats.org/officeDocument/2006/relationships/image" Target="../media/image15.jpeg"/><Relationship Id="rId68" Type="http://schemas.openxmlformats.org/officeDocument/2006/relationships/image" Target="../media/image15.jpeg"/><Relationship Id="rId69" Type="http://schemas.openxmlformats.org/officeDocument/2006/relationships/image" Target="../media/image15.jpeg"/><Relationship Id="rId70" Type="http://schemas.openxmlformats.org/officeDocument/2006/relationships/image" Target="../media/image15.jpeg"/><Relationship Id="rId71" Type="http://schemas.openxmlformats.org/officeDocument/2006/relationships/image" Target="../media/image15.jpeg"/><Relationship Id="rId72" Type="http://schemas.openxmlformats.org/officeDocument/2006/relationships/image" Target="../media/image15.jpeg"/><Relationship Id="rId73" Type="http://schemas.openxmlformats.org/officeDocument/2006/relationships/image" Target="../media/image15.jpeg"/><Relationship Id="rId74" Type="http://schemas.openxmlformats.org/officeDocument/2006/relationships/image" Target="../media/image15.jpeg"/><Relationship Id="rId75" Type="http://schemas.openxmlformats.org/officeDocument/2006/relationships/image" Target="../media/image15.jpeg"/><Relationship Id="rId76" Type="http://schemas.openxmlformats.org/officeDocument/2006/relationships/image" Target="../media/image15.jpeg"/><Relationship Id="rId77" Type="http://schemas.openxmlformats.org/officeDocument/2006/relationships/image" Target="../media/image15.jpeg"/><Relationship Id="rId78" Type="http://schemas.openxmlformats.org/officeDocument/2006/relationships/image" Target="../media/image15.jpeg"/><Relationship Id="rId79" Type="http://schemas.openxmlformats.org/officeDocument/2006/relationships/image" Target="../media/image15.jpeg"/><Relationship Id="rId80" Type="http://schemas.openxmlformats.org/officeDocument/2006/relationships/image" Target="../media/image15.jpeg"/><Relationship Id="rId81" Type="http://schemas.openxmlformats.org/officeDocument/2006/relationships/image" Target="../media/image15.jpeg"/><Relationship Id="rId82" Type="http://schemas.openxmlformats.org/officeDocument/2006/relationships/image" Target="../media/image15.jpeg"/><Relationship Id="rId83" Type="http://schemas.openxmlformats.org/officeDocument/2006/relationships/image" Target="../media/image15.jpeg"/><Relationship Id="rId84" Type="http://schemas.openxmlformats.org/officeDocument/2006/relationships/image" Target="../media/image15.jpeg"/><Relationship Id="rId85" Type="http://schemas.openxmlformats.org/officeDocument/2006/relationships/image" Target="../media/image15.jpeg"/><Relationship Id="rId86" Type="http://schemas.openxmlformats.org/officeDocument/2006/relationships/image" Target="../media/image15.jpeg"/><Relationship Id="rId87" Type="http://schemas.openxmlformats.org/officeDocument/2006/relationships/image" Target="../media/image15.jpeg"/><Relationship Id="rId88" Type="http://schemas.openxmlformats.org/officeDocument/2006/relationships/image" Target="../media/image15.jpeg"/><Relationship Id="rId89" Type="http://schemas.openxmlformats.org/officeDocument/2006/relationships/image" Target="../media/image15.jpeg"/><Relationship Id="rId90" Type="http://schemas.openxmlformats.org/officeDocument/2006/relationships/image" Target="../media/image15.jpeg"/><Relationship Id="rId91" Type="http://schemas.openxmlformats.org/officeDocument/2006/relationships/image" Target="../media/image15.jpeg"/><Relationship Id="rId92" Type="http://schemas.openxmlformats.org/officeDocument/2006/relationships/image" Target="../media/image15.jpeg"/><Relationship Id="rId93" Type="http://schemas.openxmlformats.org/officeDocument/2006/relationships/image" Target="../media/image15.jpeg"/><Relationship Id="rId94" Type="http://schemas.openxmlformats.org/officeDocument/2006/relationships/image" Target="../media/image15.jpeg"/><Relationship Id="rId95" Type="http://schemas.openxmlformats.org/officeDocument/2006/relationships/image" Target="../media/image15.jpeg"/><Relationship Id="rId96" Type="http://schemas.openxmlformats.org/officeDocument/2006/relationships/image" Target="../media/image15.jpeg"/><Relationship Id="rId97" Type="http://schemas.openxmlformats.org/officeDocument/2006/relationships/image" Target="../media/image15.jpeg"/><Relationship Id="rId98" Type="http://schemas.openxmlformats.org/officeDocument/2006/relationships/image" Target="../media/image15.jpeg"/><Relationship Id="rId99" Type="http://schemas.openxmlformats.org/officeDocument/2006/relationships/image" Target="../media/image15.jpeg"/><Relationship Id="rId100" Type="http://schemas.openxmlformats.org/officeDocument/2006/relationships/image" Target="../media/image15.jpeg"/><Relationship Id="rId101" Type="http://schemas.openxmlformats.org/officeDocument/2006/relationships/image" Target="../media/image15.jpeg"/><Relationship Id="rId102" Type="http://schemas.openxmlformats.org/officeDocument/2006/relationships/image" Target="../media/image15.jpeg"/><Relationship Id="rId103" Type="http://schemas.openxmlformats.org/officeDocument/2006/relationships/image" Target="../media/image15.jpeg"/><Relationship Id="rId104" Type="http://schemas.openxmlformats.org/officeDocument/2006/relationships/image" Target="../media/image15.jpeg"/><Relationship Id="rId105" Type="http://schemas.openxmlformats.org/officeDocument/2006/relationships/image" Target="../media/image15.jpeg"/><Relationship Id="rId106" Type="http://schemas.openxmlformats.org/officeDocument/2006/relationships/image" Target="../media/image15.jpeg"/><Relationship Id="rId107" Type="http://schemas.openxmlformats.org/officeDocument/2006/relationships/slide" Target="slide2.xml"/><Relationship Id="rId108" Type="http://schemas.openxmlformats.org/officeDocument/2006/relationships/image" Target="../media/image5.png"/><Relationship Id="rId109" Type="http://schemas.openxmlformats.org/officeDocument/2006/relationships/slide" Target=""/><Relationship Id="rId110" Type="http://schemas.openxmlformats.org/officeDocument/2006/relationships/image" Target="../media/image8.png"/><Relationship Id="rId1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36.pn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37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39.gif"/><Relationship Id="rId5" Type="http://schemas.openxmlformats.org/officeDocument/2006/relationships/image" Target="../media/image37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37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0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" Target="slide2.xml"/><Relationship Id="rId13" Type="http://schemas.openxmlformats.org/officeDocument/2006/relationships/image" Target="../media/image18.png"/><Relationship Id="rId14" Type="http://schemas.openxmlformats.org/officeDocument/2006/relationships/slide" Target="slide3.xml"/><Relationship Id="rId15" Type="http://schemas.openxmlformats.org/officeDocument/2006/relationships/image" Target="../media/image19.png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2.xml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image" Target="../media/image19.png"/><Relationship Id="rId15" Type="http://schemas.openxmlformats.org/officeDocument/2006/relationships/image" Target="../media/image22.gif"/><Relationship Id="rId16" Type="http://schemas.openxmlformats.org/officeDocument/2006/relationships/image" Target="../media/image24.png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14"/>
          <p:cNvGrpSpPr/>
          <p:nvPr/>
        </p:nvGrpSpPr>
        <p:grpSpPr>
          <a:xfrm>
            <a:off x="7523280" y="6381720"/>
            <a:ext cx="1418760" cy="287280"/>
            <a:chOff x="7523280" y="6381720"/>
            <a:chExt cx="1418760" cy="287280"/>
          </a:xfrm>
        </p:grpSpPr>
        <p:pic>
          <p:nvPicPr>
            <p:cNvPr id="266" name="Rectangle 1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23280" y="6381720"/>
              <a:ext cx="14158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524360" y="6381720"/>
              <a:ext cx="1417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Прямоугольник 3" descr=""/>
          <p:cNvPicPr/>
          <p:nvPr/>
        </p:nvPicPr>
        <p:blipFill>
          <a:blip r:embed="rId3"/>
          <a:stretch/>
        </p:blipFill>
        <p:spPr>
          <a:xfrm>
            <a:off x="285840" y="2133720"/>
            <a:ext cx="857232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089080" y="895320"/>
            <a:ext cx="58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258920" y="1898280"/>
            <a:ext cx="6780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Какая по счёту Земля в Солнечной Сист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4394160" y="357336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3"/>
          <p:cNvSpPr/>
          <p:nvPr/>
        </p:nvSpPr>
        <p:spPr>
          <a:xfrm rot="10800000">
            <a:off x="5329080" y="4652640"/>
            <a:ext cx="3275280" cy="16844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ре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90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93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26" descr="desk_globe_e0"/>
          <p:cNvPicPr/>
          <p:nvPr/>
        </p:nvPicPr>
        <p:blipFill>
          <a:blip r:embed="rId15"/>
          <a:stretch/>
        </p:blipFill>
        <p:spPr>
          <a:xfrm>
            <a:off x="1403280" y="3716280"/>
            <a:ext cx="151308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0560" y="55080"/>
            <a:ext cx="58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опрос!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343160" y="623520"/>
            <a:ext cx="7673760" cy="1584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Что такое горные породы? Какие виды горных пород существу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4" descr="J0189255"/>
          <p:cNvPicPr/>
          <p:nvPr/>
        </p:nvPicPr>
        <p:blipFill>
          <a:blip r:embed="rId1"/>
          <a:stretch/>
        </p:blipFill>
        <p:spPr>
          <a:xfrm>
            <a:off x="41400" y="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162000" y="152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6"/>
          <p:cNvSpPr txBox="1"/>
          <p:nvPr/>
        </p:nvSpPr>
        <p:spPr>
          <a:xfrm>
            <a:off x="442800" y="44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539640" y="2166840"/>
            <a:ext cx="432144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3"/>
          <p:cNvSpPr/>
          <p:nvPr/>
        </p:nvSpPr>
        <p:spPr>
          <a:xfrm rot="10800000">
            <a:off x="442800" y="3115440"/>
            <a:ext cx="8568000" cy="2303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ещества, из которых состоит земная кора, образованные 1 или несколькими минералами. Они бывают магматические, метаморфические и осад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1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1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658880" y="907920"/>
            <a:ext cx="6780240" cy="154944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Che"/>
                <a:ea typeface="GungsuhChe"/>
              </a:rPr>
              <a:t>Перечислите все планеты Солнеч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2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2303640" y="2565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3"/>
          <p:cNvSpPr/>
          <p:nvPr/>
        </p:nvSpPr>
        <p:spPr>
          <a:xfrm rot="10800000">
            <a:off x="3563640" y="3357000"/>
            <a:ext cx="5452920" cy="2950920"/>
          </a:xfrm>
          <a:prstGeom prst="wedgeRectCallout">
            <a:avLst>
              <a:gd name="adj1" fmla="val -12597"/>
              <a:gd name="adj2" fmla="val 7668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еркурий, Венера, Земля, Марс, Юпитер, Сатурн, Уран, Нептун, Плу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2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3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22" descr="116"/>
          <p:cNvPicPr/>
          <p:nvPr/>
        </p:nvPicPr>
        <p:blipFill>
          <a:blip r:embed="rId15"/>
          <a:stretch/>
        </p:blipFill>
        <p:spPr>
          <a:xfrm>
            <a:off x="1692360" y="386064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69720" y="0"/>
            <a:ext cx="583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274400" y="1284120"/>
            <a:ext cx="7623000" cy="1206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зовите планеты Земной групп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4" descr="J0189255"/>
          <p:cNvPicPr/>
          <p:nvPr/>
        </p:nvPicPr>
        <p:blipFill>
          <a:blip r:embed="rId1"/>
          <a:stretch/>
        </p:blipFill>
        <p:spPr>
          <a:xfrm>
            <a:off x="-4680" y="-9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5">
            <a:hlinkClick r:id="rId2" action="ppaction://hlinksldjump"/>
          </p:cNvPr>
          <p:cNvSpPr/>
          <p:nvPr/>
        </p:nvSpPr>
        <p:spPr>
          <a:xfrm>
            <a:off x="155520" y="150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560520" y="44136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2411280" y="277344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 rot="10800000">
            <a:off x="2660760" y="4000320"/>
            <a:ext cx="6356160" cy="13064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Меркурий,Венера,Земля,Марс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48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51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01560" y="101520"/>
            <a:ext cx="5832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501920" y="1320480"/>
            <a:ext cx="7526160" cy="13683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54675"/>
                </a:solidFill>
                <a:latin typeface="Comic Sans MS"/>
              </a:rPr>
              <a:t>Что такое рельеф и какие виды рельефа существуют? Показать пример на кар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5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963720" y="27766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3"/>
          <p:cNvSpPr/>
          <p:nvPr/>
        </p:nvSpPr>
        <p:spPr>
          <a:xfrm rot="10800000">
            <a:off x="3708000" y="3406680"/>
            <a:ext cx="5086440" cy="206712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вокупность неровностей поверхности суши и дна океана. Выпуклые и вогнутые формы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6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7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Picture 22" descr="116"/>
          <p:cNvPicPr/>
          <p:nvPr/>
        </p:nvPicPr>
        <p:blipFill>
          <a:blip r:embed="rId15"/>
          <a:stretch/>
        </p:blipFill>
        <p:spPr>
          <a:xfrm>
            <a:off x="184320" y="169848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6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365200" y="-24120"/>
            <a:ext cx="5832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649520" y="1284120"/>
            <a:ext cx="71294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65e9c"/>
                </a:solidFill>
                <a:latin typeface="Calibri"/>
              </a:rPr>
              <a:t>Что такое атмосфера? Каков состав атмосферного воздуха?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5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7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7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250920" y="2565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3"/>
          <p:cNvSpPr/>
          <p:nvPr/>
        </p:nvSpPr>
        <p:spPr>
          <a:xfrm rot="10800000">
            <a:off x="2735280" y="3294000"/>
            <a:ext cx="5952960" cy="283392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Воздушная оболочка Земли. Азот, кислород, водяные пары, углекисл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2 б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8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9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2" name="Picture 23" descr="033"/>
          <p:cNvPicPr/>
          <p:nvPr/>
        </p:nvPicPr>
        <p:blipFill>
          <a:blip r:embed="rId15"/>
          <a:stretch/>
        </p:blipFill>
        <p:spPr>
          <a:xfrm>
            <a:off x="55440" y="335592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626920" y="927000"/>
            <a:ext cx="6404040" cy="70488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Что такое Солнечная систем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4643280" y="184644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3"/>
          <p:cNvSpPr/>
          <p:nvPr/>
        </p:nvSpPr>
        <p:spPr>
          <a:xfrm rot="10800000">
            <a:off x="4925520" y="3303720"/>
            <a:ext cx="3754440" cy="2993760"/>
          </a:xfrm>
          <a:prstGeom prst="wedgeRectCallout">
            <a:avLst>
              <a:gd name="adj1" fmla="val -7143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олнце и вращающиеся вокруг неё план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0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1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23" descr="Закат"/>
          <p:cNvPicPr/>
          <p:nvPr/>
        </p:nvPicPr>
        <p:blipFill>
          <a:blip r:embed="rId15"/>
          <a:stretch/>
        </p:blipFill>
        <p:spPr>
          <a:xfrm>
            <a:off x="507960" y="1736640"/>
            <a:ext cx="406404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218440" cy="1323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54675"/>
                </a:solidFill>
                <a:latin typeface="Comic Sans MS"/>
              </a:rPr>
              <a:t>Как называется путь по которой Земля вращается вокруг Солнц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4" descr="abb7dee37f44ae66de3bc40da7b80ff7"/>
          <p:cNvPicPr/>
          <p:nvPr/>
        </p:nvPicPr>
        <p:blipFill>
          <a:blip r:embed="rId1"/>
          <a:stretch/>
        </p:blipFill>
        <p:spPr>
          <a:xfrm>
            <a:off x="1332000" y="3213000"/>
            <a:ext cx="1546200" cy="1932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1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РБИТА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28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31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0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0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98720" y="1593360"/>
            <a:ext cx="7643520" cy="34909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ОНКУРС КРОКОДИЛ!!! ПРОШУ УЧАСТНИКА К ДОСК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40" name="Rectangle 1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43" name="Rectangle 2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Picture 22" descr="116"/>
          <p:cNvPicPr/>
          <p:nvPr/>
        </p:nvPicPr>
        <p:blipFill>
          <a:blip r:embed="rId10"/>
          <a:stretch/>
        </p:blipFill>
        <p:spPr>
          <a:xfrm>
            <a:off x="1569960" y="328680"/>
            <a:ext cx="10954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0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8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786800" cy="1396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В каком направлении вращается Земля вокруг Солн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5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1871640" y="321300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3"/>
          <p:cNvSpPr/>
          <p:nvPr/>
        </p:nvSpPr>
        <p:spPr>
          <a:xfrm rot="10800000">
            <a:off x="5148000" y="4049640"/>
            <a:ext cx="3995640" cy="22478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 запада на восток, против часовой 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6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6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0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7"/>
          <p:cNvSpPr/>
          <p:nvPr/>
        </p:nvSpPr>
        <p:spPr>
          <a:xfrm>
            <a:off x="755640" y="2565360"/>
            <a:ext cx="2808360" cy="647640"/>
          </a:xfrm>
          <a:prstGeom prst="rect">
            <a:avLst/>
          </a:prstGeom>
          <a:solidFill>
            <a:srgbClr val="fda02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16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271" name="Rectangle 17"/>
          <p:cNvGrpSpPr/>
          <p:nvPr/>
        </p:nvGrpSpPr>
        <p:grpSpPr>
          <a:xfrm>
            <a:off x="6589800" y="6381720"/>
            <a:ext cx="1420200" cy="287280"/>
            <a:chOff x="6589800" y="6381720"/>
            <a:chExt cx="1420200" cy="287280"/>
          </a:xfrm>
        </p:grpSpPr>
        <p:pic>
          <p:nvPicPr>
            <p:cNvPr id="272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91240" y="6381720"/>
              <a:ext cx="1418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58980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19"/>
          <p:cNvSpPr/>
          <p:nvPr/>
        </p:nvSpPr>
        <p:spPr>
          <a:xfrm>
            <a:off x="3570120" y="981000"/>
            <a:ext cx="52628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1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Выбери ячейку с номером и щёлкни по ней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2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Прочита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3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Чтобы узнать правильный ответ, щёлкни мышкой по эк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4.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Чтобы продолжить игру, щёлкни мыш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по кнопке «Продолжить игр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Rectangle 27"/>
          <p:cNvGrpSpPr/>
          <p:nvPr/>
        </p:nvGrpSpPr>
        <p:grpSpPr>
          <a:xfrm>
            <a:off x="8242200" y="6381720"/>
            <a:ext cx="699840" cy="287280"/>
            <a:chOff x="8242200" y="6381720"/>
            <a:chExt cx="699840" cy="287280"/>
          </a:xfrm>
        </p:grpSpPr>
        <p:pic>
          <p:nvPicPr>
            <p:cNvPr id="276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42200" y="6381720"/>
              <a:ext cx="6969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243640" y="6381720"/>
              <a:ext cx="6984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35"/>
          <p:cNvSpPr/>
          <p:nvPr/>
        </p:nvSpPr>
        <p:spPr>
          <a:xfrm>
            <a:off x="2700360" y="1844640"/>
            <a:ext cx="503280" cy="46692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281" h="21600">
                <a:moveTo>
                  <a:pt x="0" y="0"/>
                </a:moveTo>
                <a:lnTo>
                  <a:pt x="23281" y="0"/>
                </a:lnTo>
                <a:lnTo>
                  <a:pt x="23281" y="21600"/>
                </a:lnTo>
                <a:lnTo>
                  <a:pt x="0" y="21600"/>
                </a:lnTo>
                <a:close/>
              </a:path>
              <a:path fill="lightenLess" w="23281" h="21600">
                <a:moveTo>
                  <a:pt x="0" y="0"/>
                </a:moveTo>
                <a:lnTo>
                  <a:pt x="23281" y="0"/>
                </a:lnTo>
                <a:lnTo>
                  <a:pt x="21881" y="1400"/>
                </a:lnTo>
                <a:lnTo>
                  <a:pt x="1400" y="1400"/>
                </a:lnTo>
                <a:close/>
              </a:path>
              <a:path fill="darken" w="23281" h="21600">
                <a:moveTo>
                  <a:pt x="23281" y="0"/>
                </a:moveTo>
                <a:lnTo>
                  <a:pt x="23281" y="21600"/>
                </a:lnTo>
                <a:lnTo>
                  <a:pt x="21881" y="20200"/>
                </a:lnTo>
                <a:lnTo>
                  <a:pt x="21881" y="1400"/>
                </a:lnTo>
                <a:close/>
              </a:path>
              <a:path fill="darkenLess" w="23281" h="21600">
                <a:moveTo>
                  <a:pt x="2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1" y="20200"/>
                </a:lnTo>
                <a:close/>
              </a:path>
              <a:path fill="lighten" w="2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6"/>
          <p:cNvSpPr/>
          <p:nvPr/>
        </p:nvSpPr>
        <p:spPr>
          <a:xfrm>
            <a:off x="468360" y="249228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ография это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0"/>
          <p:cNvSpPr/>
          <p:nvPr/>
        </p:nvSpPr>
        <p:spPr>
          <a:xfrm>
            <a:off x="1403280" y="3933720"/>
            <a:ext cx="2160720" cy="505080"/>
          </a:xfrm>
          <a:prstGeom prst="rect">
            <a:avLst/>
          </a:prstGeom>
          <a:solidFill>
            <a:srgbClr val="ccdd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727280" y="1177920"/>
            <a:ext cx="6780240" cy="9302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роение атмосферы Зем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7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4168800" y="1987560"/>
            <a:ext cx="432108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3"/>
          <p:cNvSpPr/>
          <p:nvPr/>
        </p:nvSpPr>
        <p:spPr>
          <a:xfrm rot="10800000">
            <a:off x="4589280" y="2917440"/>
            <a:ext cx="4284360" cy="930240"/>
          </a:xfrm>
          <a:prstGeom prst="wedgeRectCallout">
            <a:avLst>
              <a:gd name="adj1" fmla="val 425"/>
              <a:gd name="adj2" fmla="val 68087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7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8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4" name="Picture 22" descr="116"/>
          <p:cNvPicPr/>
          <p:nvPr/>
        </p:nvPicPr>
        <p:blipFill>
          <a:blip r:embed="rId15"/>
          <a:stretch/>
        </p:blipFill>
        <p:spPr>
          <a:xfrm>
            <a:off x="1403280" y="3860640"/>
            <a:ext cx="1095480" cy="971640"/>
          </a:xfrm>
          <a:prstGeom prst="rect">
            <a:avLst/>
          </a:prstGeom>
          <a:ln w="0">
            <a:noFill/>
          </a:ln>
        </p:spPr>
      </p:pic>
      <p:pic>
        <p:nvPicPr>
          <p:cNvPr id="685" name="Рисунок 2" descr=""/>
          <p:cNvPicPr/>
          <p:nvPr/>
        </p:nvPicPr>
        <p:blipFill>
          <a:blip r:embed="rId16"/>
          <a:stretch/>
        </p:blipFill>
        <p:spPr>
          <a:xfrm>
            <a:off x="0" y="1825560"/>
            <a:ext cx="4168800" cy="50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0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10960" y="1412640"/>
            <a:ext cx="7715160" cy="1468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 на Земле происходит смена времен го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4" descr="3"/>
          <p:cNvPicPr/>
          <p:nvPr/>
        </p:nvPicPr>
        <p:blipFill>
          <a:blip r:embed="rId1"/>
          <a:stretch/>
        </p:blipFill>
        <p:spPr>
          <a:xfrm>
            <a:off x="582480" y="3514680"/>
            <a:ext cx="2233800" cy="13143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9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3276720" y="274644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3"/>
          <p:cNvSpPr/>
          <p:nvPr/>
        </p:nvSpPr>
        <p:spPr>
          <a:xfrm rot="10800000">
            <a:off x="3058920" y="4016520"/>
            <a:ext cx="5997240" cy="21650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Вследствие того что Земля движется вокруг Солнца и вращается вокруг оси, сохраняющий постоянный нак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01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04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0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9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007640" y="1857240"/>
            <a:ext cx="722628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Что такое сут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1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1979640" y="3357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3"/>
          <p:cNvSpPr/>
          <p:nvPr/>
        </p:nvSpPr>
        <p:spPr>
          <a:xfrm rot="10800000">
            <a:off x="4903560" y="4076640"/>
            <a:ext cx="3889080" cy="194472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олный оборот Земли вокруг своей о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 ба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2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2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5" name="Picture 22" descr="116"/>
          <p:cNvPicPr/>
          <p:nvPr/>
        </p:nvPicPr>
        <p:blipFill>
          <a:blip r:embed="rId15"/>
          <a:stretch/>
        </p:blipFill>
        <p:spPr>
          <a:xfrm>
            <a:off x="1476360" y="4005360"/>
            <a:ext cx="1095480" cy="97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0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7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92000" y="1558440"/>
            <a:ext cx="7786800" cy="892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Что такое го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24" descr="e188aaa3434e66288ee778c007748f25"/>
          <p:cNvPicPr/>
          <p:nvPr/>
        </p:nvPicPr>
        <p:blipFill>
          <a:blip r:embed="rId1"/>
          <a:stretch/>
        </p:blipFill>
        <p:spPr>
          <a:xfrm>
            <a:off x="1006560" y="3573360"/>
            <a:ext cx="1390680" cy="1238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3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2"/>
          <p:cNvSpPr/>
          <p:nvPr/>
        </p:nvSpPr>
        <p:spPr>
          <a:xfrm>
            <a:off x="1116000" y="249228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3"/>
          <p:cNvSpPr/>
          <p:nvPr/>
        </p:nvSpPr>
        <p:spPr>
          <a:xfrm rot="10800000">
            <a:off x="3058920" y="3066840"/>
            <a:ext cx="5957640" cy="25225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7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Полный оборот Земли вокруг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41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44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5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4360" y="1915920"/>
            <a:ext cx="7488000" cy="136836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54675"/>
                </a:solidFill>
                <a:latin typeface="Comic Sans MS"/>
              </a:rPr>
              <a:t>Что такое день весеннего и осеннего равноденствия. Назовите дат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5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2"/>
          <p:cNvSpPr/>
          <p:nvPr/>
        </p:nvSpPr>
        <p:spPr>
          <a:xfrm>
            <a:off x="1819440" y="3357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3"/>
          <p:cNvSpPr/>
          <p:nvPr/>
        </p:nvSpPr>
        <p:spPr>
          <a:xfrm rot="10800000">
            <a:off x="3924000" y="4149720"/>
            <a:ext cx="5040360" cy="21477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оложение Земли, когда день равен ночи. Солнце в зените над экватором. 21 марта и 23 сентя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2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6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6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nodeType="clickEffect" fill="hold">
                      <p:stCondLst>
                        <p:cond delay="0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3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24000" y="1485720"/>
            <a:ext cx="7632720" cy="8190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Что такое пого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6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4843440" y="222264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 rot="10800000">
            <a:off x="2025720" y="3688920"/>
            <a:ext cx="7113600" cy="25304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7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остояние атмосферы в той или иной местности в данный или ограниченный промежуток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7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8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4" name="Picture 22" descr="051"/>
          <p:cNvPicPr/>
          <p:nvPr/>
        </p:nvPicPr>
        <p:blipFill>
          <a:blip r:embed="rId15"/>
          <a:stretch/>
        </p:blipFill>
        <p:spPr>
          <a:xfrm>
            <a:off x="1116000" y="407664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1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0" y="1258920"/>
            <a:ext cx="9144000" cy="19288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метеорологических приб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Picture 4" descr="J0189255"/>
          <p:cNvPicPr/>
          <p:nvPr/>
        </p:nvPicPr>
        <p:blipFill>
          <a:blip r:embed="rId1"/>
          <a:stretch/>
        </p:blipFill>
        <p:spPr>
          <a:xfrm>
            <a:off x="71280" y="46080"/>
            <a:ext cx="1368720" cy="136836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5">
            <a:hlinkClick r:id="rId2" action="ppaction://hlinksldjump"/>
          </p:cNvPr>
          <p:cNvSpPr/>
          <p:nvPr/>
        </p:nvSpPr>
        <p:spPr>
          <a:xfrm>
            <a:off x="163440" y="149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WordArt 6"/>
          <p:cNvSpPr txBox="1"/>
          <p:nvPr/>
        </p:nvSpPr>
        <p:spPr>
          <a:xfrm>
            <a:off x="417600" y="44136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9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9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0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23" descr="01111"/>
          <p:cNvPicPr/>
          <p:nvPr/>
        </p:nvPicPr>
        <p:blipFill>
          <a:blip r:embed="rId15"/>
          <a:stretch/>
        </p:blipFill>
        <p:spPr>
          <a:xfrm>
            <a:off x="755640" y="3357720"/>
            <a:ext cx="1230480" cy="2016000"/>
          </a:xfrm>
          <a:prstGeom prst="rect">
            <a:avLst/>
          </a:prstGeom>
          <a:ln w="0">
            <a:noFill/>
          </a:ln>
        </p:spPr>
      </p:pic>
      <p:sp>
        <p:nvSpPr>
          <p:cNvPr id="803" name="Rectangle 12"/>
          <p:cNvSpPr/>
          <p:nvPr/>
        </p:nvSpPr>
        <p:spPr>
          <a:xfrm>
            <a:off x="704880" y="29178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3"/>
          <p:cNvSpPr/>
          <p:nvPr/>
        </p:nvSpPr>
        <p:spPr>
          <a:xfrm rot="10800000">
            <a:off x="2025720" y="3689280"/>
            <a:ext cx="7113600" cy="192888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8000"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арометр, флюгер, гигрометр, термометр, осадк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0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9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95280" y="1592280"/>
            <a:ext cx="8229600" cy="33415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5e9c"/>
                </a:solidFill>
                <a:latin typeface="Calibri"/>
              </a:rPr>
              <a:t>КОНКУРС КРОКОДИЛ!!! ПРОШУ УЧАСТНИКА К ДОСК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0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1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1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2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0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7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847800" y="1425240"/>
            <a:ext cx="6780240" cy="10796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гидросф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2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3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3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9" name="Picture 23" descr="01111"/>
          <p:cNvPicPr/>
          <p:nvPr/>
        </p:nvPicPr>
        <p:blipFill>
          <a:blip r:embed="rId15"/>
          <a:stretch/>
        </p:blipFill>
        <p:spPr>
          <a:xfrm>
            <a:off x="971640" y="3429000"/>
            <a:ext cx="1185840" cy="194472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12"/>
          <p:cNvSpPr/>
          <p:nvPr/>
        </p:nvSpPr>
        <p:spPr>
          <a:xfrm>
            <a:off x="971640" y="263844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13"/>
          <p:cNvSpPr/>
          <p:nvPr/>
        </p:nvSpPr>
        <p:spPr>
          <a:xfrm rot="10800000">
            <a:off x="2025720" y="3689280"/>
            <a:ext cx="7113600" cy="192888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дная оболочк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nodeType="clickEffect" fill="hold">
                      <p:stCondLst>
                        <p:cond delay="0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8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90440" y="1474560"/>
            <a:ext cx="8826480" cy="136836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Мировой океан? Назовите его части. Показать на кар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4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5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5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Rectangle 12"/>
          <p:cNvSpPr/>
          <p:nvPr/>
        </p:nvSpPr>
        <p:spPr>
          <a:xfrm>
            <a:off x="614520" y="2754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3"/>
          <p:cNvSpPr/>
          <p:nvPr/>
        </p:nvSpPr>
        <p:spPr>
          <a:xfrm rot="10800000">
            <a:off x="190080" y="3601800"/>
            <a:ext cx="8893080" cy="220968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диное водное пространство, которое окружает материки и острова и обладает общим солевым составом. Тихий, Атлантический, Индийский, Северный Ледови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nodeType="clickEffect" fill="hold">
                      <p:stCondLst>
                        <p:cond delay="0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8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7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8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9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0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1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2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3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4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5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6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7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8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9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0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1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2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3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4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5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6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7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8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9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0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1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2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3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4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5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6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7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8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9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50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51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ectangle 151"/>
          <p:cNvGrpSpPr/>
          <p:nvPr/>
        </p:nvGrpSpPr>
        <p:grpSpPr>
          <a:xfrm>
            <a:off x="6589800" y="6381720"/>
            <a:ext cx="1420200" cy="287280"/>
            <a:chOff x="6589800" y="6381720"/>
            <a:chExt cx="1420200" cy="287280"/>
          </a:xfrm>
        </p:grpSpPr>
        <p:pic>
          <p:nvPicPr>
            <p:cNvPr id="353" name="Rectangle 151" descr="">
              <a:hlinkClick r:id="rId107" action="ppaction://hlinksldjump"/>
            </p:cNvPr>
            <p:cNvPicPr/>
            <p:nvPr/>
          </p:nvPicPr>
          <p:blipFill>
            <a:blip r:embed="rId108"/>
            <a:stretch/>
          </p:blipFill>
          <p:spPr>
            <a:xfrm>
              <a:off x="6591240" y="6381720"/>
              <a:ext cx="1418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58980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Rectangle 154"/>
          <p:cNvGrpSpPr/>
          <p:nvPr/>
        </p:nvGrpSpPr>
        <p:grpSpPr>
          <a:xfrm>
            <a:off x="8242200" y="6381720"/>
            <a:ext cx="699840" cy="287280"/>
            <a:chOff x="8242200" y="6381720"/>
            <a:chExt cx="699840" cy="287280"/>
          </a:xfrm>
        </p:grpSpPr>
        <p:pic>
          <p:nvPicPr>
            <p:cNvPr id="356" name="Rectangle 154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8242200" y="6381720"/>
              <a:ext cx="6969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243640" y="6381720"/>
              <a:ext cx="6984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49200" y="1916280"/>
            <a:ext cx="8229600" cy="24048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С КРОКОДИЛ!!! ПРОШУ УЧАСТНИКА К ДОСК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6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6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7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7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8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332000" y="1592280"/>
            <a:ext cx="6780240" cy="176544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omic Sans MS"/>
              </a:rPr>
              <a:t>Назовите день зимнего и летнего солнцестоя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8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8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2"/>
          <p:cNvSpPr/>
          <p:nvPr/>
        </p:nvSpPr>
        <p:spPr>
          <a:xfrm>
            <a:off x="1065240" y="35784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3"/>
          <p:cNvSpPr/>
          <p:nvPr/>
        </p:nvSpPr>
        <p:spPr>
          <a:xfrm rot="10800000">
            <a:off x="5219640" y="4152960"/>
            <a:ext cx="3456000" cy="230040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22 декабря и 22 ию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Rectangle 21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92" name="Rectangle 21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Rectangle 23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95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nodeType="clickEffect" fill="hold">
                      <p:stCondLst>
                        <p:cond delay="0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7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1750680" y="1275840"/>
            <a:ext cx="6778440" cy="10796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залив? Показать на кар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90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08" name="Rectangle 19" descr=""/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911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3" name="Рисунок 1" descr=""/>
          <p:cNvPicPr/>
          <p:nvPr/>
        </p:nvPicPr>
        <p:blipFill>
          <a:blip r:embed="rId13"/>
          <a:stretch/>
        </p:blipFill>
        <p:spPr>
          <a:xfrm>
            <a:off x="149400" y="2143080"/>
            <a:ext cx="4638600" cy="860400"/>
          </a:xfrm>
          <a:prstGeom prst="rect">
            <a:avLst/>
          </a:prstGeom>
          <a:ln w="0">
            <a:noFill/>
          </a:ln>
        </p:spPr>
      </p:pic>
      <p:sp>
        <p:nvSpPr>
          <p:cNvPr id="914" name="AutoShape 13"/>
          <p:cNvSpPr/>
          <p:nvPr/>
        </p:nvSpPr>
        <p:spPr>
          <a:xfrm rot="10800000">
            <a:off x="0" y="3141000"/>
            <a:ext cx="9144000" cy="29480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часток водной поверхности океана, моря, озера, водохранилища, вдающийся в сушу, но свободно сообщающийся с основной частью водо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nodeType="clickEffect" fill="hold">
                      <p:stCondLst>
                        <p:cond delay="0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7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824120" y="1212480"/>
            <a:ext cx="6780240" cy="100980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остров? Показать на кар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27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930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Rectangle 12"/>
          <p:cNvSpPr/>
          <p:nvPr/>
        </p:nvSpPr>
        <p:spPr>
          <a:xfrm>
            <a:off x="379440" y="209376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3"/>
          <p:cNvSpPr/>
          <p:nvPr/>
        </p:nvSpPr>
        <p:spPr>
          <a:xfrm rot="10800000">
            <a:off x="1125000" y="2930040"/>
            <a:ext cx="7983720" cy="230040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ебольшой по сравнению с материком участок суши, со всех сторон окруженный в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nodeType="clickEffect" fill="hold">
                      <p:stCondLst>
                        <p:cond delay="0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7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1332000" y="1989000"/>
            <a:ext cx="6780240" cy="2376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С КРОКОДИЛ!!! ПРОШУ УЧАСТНИКА К ДОСК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46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949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0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5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3" name="AutoShape 11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Рисунок 1" descr=""/>
          <p:cNvPicPr/>
          <p:nvPr/>
        </p:nvPicPr>
        <p:blipFill>
          <a:blip r:embed="rId5"/>
          <a:stretch/>
        </p:blipFill>
        <p:spPr>
          <a:xfrm>
            <a:off x="1116000" y="2212920"/>
            <a:ext cx="683892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8" descr="J0282736"/>
          <p:cNvPicPr/>
          <p:nvPr/>
        </p:nvPicPr>
        <p:blipFill>
          <a:blip r:embed="rId1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956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8" name="AutoShape 9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WordArt 10"/>
          <p:cNvSpPr txBox="1"/>
          <p:nvPr/>
        </p:nvSpPr>
        <p:spPr>
          <a:xfrm>
            <a:off x="1835280" y="2990880"/>
            <a:ext cx="326052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60" name="Прямоугольник 1" descr=""/>
          <p:cNvPicPr/>
          <p:nvPr/>
        </p:nvPicPr>
        <p:blipFill>
          <a:blip r:embed="rId6"/>
          <a:stretch/>
        </p:blipFill>
        <p:spPr>
          <a:xfrm>
            <a:off x="1511280" y="517680"/>
            <a:ext cx="6986520" cy="13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3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2 балл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4" name="Picture 7" descr="J0282736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965" name="AutoShape 8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9"/>
          <p:cNvSpPr txBox="1"/>
          <p:nvPr/>
        </p:nvSpPr>
        <p:spPr>
          <a:xfrm>
            <a:off x="1547640" y="2990880"/>
            <a:ext cx="354816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nodeType="clickEffect" fill="hold">
                      <p:stCondLst>
                        <p:cond delay="0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1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9" name="AutoShape 7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Рисунок 1" descr=""/>
          <p:cNvPicPr/>
          <p:nvPr/>
        </p:nvPicPr>
        <p:blipFill>
          <a:blip r:embed="rId5"/>
          <a:stretch/>
        </p:blipFill>
        <p:spPr>
          <a:xfrm>
            <a:off x="1152360" y="2212920"/>
            <a:ext cx="683928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741320" y="1449360"/>
            <a:ext cx="6778800" cy="20160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Что в переводе с греческого означает слово географ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3706920" y="278280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6"/>
          <p:cNvSpPr/>
          <p:nvPr/>
        </p:nvSpPr>
        <p:spPr>
          <a:xfrm rot="10800000">
            <a:off x="5130720" y="4329000"/>
            <a:ext cx="4013280" cy="22687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Описание земл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 бал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ectangle 22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71" name="Rectangle 2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Rectangle 23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74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5" descr="desk_globe_e0"/>
          <p:cNvPicPr/>
          <p:nvPr/>
        </p:nvPicPr>
        <p:blipFill>
          <a:blip r:embed="rId15"/>
          <a:stretch/>
        </p:blipFill>
        <p:spPr>
          <a:xfrm>
            <a:off x="104292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86800" cy="11808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Кого считают отцом географ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4" descr="18"/>
          <p:cNvPicPr/>
          <p:nvPr/>
        </p:nvPicPr>
        <p:blipFill>
          <a:blip r:embed="rId1"/>
          <a:stretch/>
        </p:blipFill>
        <p:spPr>
          <a:xfrm>
            <a:off x="1258920" y="3357720"/>
            <a:ext cx="1326960" cy="1860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719280" y="556560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Эратосфен 1 бал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92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95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4000" y="1591920"/>
            <a:ext cx="7788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Какие объекты называются географически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4498920" y="29671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3"/>
          <p:cNvSpPr/>
          <p:nvPr/>
        </p:nvSpPr>
        <p:spPr>
          <a:xfrm rot="10800000">
            <a:off x="5148360" y="4194000"/>
            <a:ext cx="3311280" cy="2114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зданные природой и челове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11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14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23" descr="116"/>
          <p:cNvPicPr/>
          <p:nvPr/>
        </p:nvPicPr>
        <p:blipFill>
          <a:blip r:embed="rId15"/>
          <a:stretch/>
        </p:blipFill>
        <p:spPr>
          <a:xfrm>
            <a:off x="1042920" y="3573360"/>
            <a:ext cx="1657440" cy="14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65160" y="1720440"/>
            <a:ext cx="7213680" cy="10429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675"/>
                </a:solidFill>
                <a:latin typeface="Comic Sans MS"/>
              </a:rPr>
              <a:t>Что такое литосфер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4140360" y="28926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3"/>
          <p:cNvSpPr/>
          <p:nvPr/>
        </p:nvSpPr>
        <p:spPr>
          <a:xfrm rot="10800000">
            <a:off x="4787640" y="4338720"/>
            <a:ext cx="4228920" cy="2114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аменная оболочка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 ба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3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3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26560" y="1924200"/>
            <a:ext cx="7859880" cy="13255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4675"/>
                </a:solidFill>
                <a:latin typeface="Comic Sans MS"/>
              </a:rPr>
              <a:t>Назовите внутреннее строение Зем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24" descr="4a010051e6bac851944df933df1ff232"/>
          <p:cNvPicPr/>
          <p:nvPr/>
        </p:nvPicPr>
        <p:blipFill>
          <a:blip r:embed="rId1"/>
          <a:stretch/>
        </p:blipFill>
        <p:spPr>
          <a:xfrm>
            <a:off x="1619280" y="3564000"/>
            <a:ext cx="1657440" cy="1325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J0189255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5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4356000" y="260352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3"/>
          <p:cNvSpPr/>
          <p:nvPr/>
        </p:nvSpPr>
        <p:spPr>
          <a:xfrm rot="10800000">
            <a:off x="4355640" y="3913200"/>
            <a:ext cx="4537080" cy="24242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дро (внутреннее и внешнее), мантия, верхняя мантия и земная к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50" name="Rectangle 1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53" name="Rectangle 2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НИМАНИЕ !  ВОПРОС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587600" y="1370160"/>
            <a:ext cx="7129440" cy="1512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GungsuhChe"/>
              </a:rPr>
              <a:t>Что называют вулканом? Какового его строени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489560" y="25956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10800000">
            <a:off x="2653920" y="3674880"/>
            <a:ext cx="6481800" cy="187308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улкан – геологическое образование, возникающие в результате поднятия и извержения магмы. Стро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6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7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2" descr="116"/>
          <p:cNvPicPr/>
          <p:nvPr/>
        </p:nvPicPr>
        <p:blipFill>
          <a:blip r:embed="rId15"/>
          <a:stretch/>
        </p:blipFill>
        <p:spPr>
          <a:xfrm>
            <a:off x="1042920" y="3645000"/>
            <a:ext cx="1513080" cy="134136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2" descr=""/>
          <p:cNvPicPr/>
          <p:nvPr/>
        </p:nvPicPr>
        <p:blipFill>
          <a:blip r:embed="rId16"/>
          <a:stretch/>
        </p:blipFill>
        <p:spPr>
          <a:xfrm>
            <a:off x="496800" y="2965320"/>
            <a:ext cx="361008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0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Анастастия Гурова</cp:lastModifiedBy>
  <dcterms:modified xsi:type="dcterms:W3CDTF">2022-05-12T17:24:30Z</dcterms:modified>
  <cp:revision>159</cp:revision>
  <dc:subject/>
  <dc:title>Слайд 1</dc:title>
</cp:coreProperties>
</file>